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50EE-A7ED-4D1A-8A50-625EB0AB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529D-37EC-44DC-9D5F-0E9B64FE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A09E-4614-4D17-B079-BB9BAE93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B88F-4CA5-41B6-9EDF-EAAC7194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2544-7209-437E-8E9F-B3F510CE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E4F9-7ED5-4347-9CCF-C3CA28F8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46CD-8431-4E57-B06B-92F34B65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BA84-27B4-4D39-9730-A0E08C60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B45D-3B39-42A2-80E2-45707331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8F13-14D6-45C4-9B6D-A864FAD0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AF6F-B1EE-458C-8386-4438DDDB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4752-6767-43E1-B690-5A9FE319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9F55-3FF7-4FD7-AAEE-CB5989F30B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а фармац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I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84360" y="2852640"/>
            <a:ext cx="77724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Антикоагулантна, фибринолитичка и антитромбоцитна 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371600" y="54864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d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оагулациона каскада – Савремени моде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орокомпонентни комплек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ећина активираних фактора су ензими изузев: Иа (фибрин) Ва, ВИИИ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мплекси се налазе на фосфолипидној ањонској површини, за чију даљу функцију је потребан калцију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актори XИ и XИИ (каликреин), део екстринзичког пута, региструју се само у лабораторијским условима (ин витро), део су традиционалног интризичког пута и сматра се да нису од значаја за клиничко разматрањ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28760" y="3500280"/>
          <a:ext cx="8372520" cy="2392560"/>
        </p:xfrm>
        <a:graphic>
          <a:graphicData uri="http://schemas.openxmlformats.org/drawingml/2006/table">
            <a:tbl>
              <a:tblPr/>
              <a:tblGrid>
                <a:gridCol w="2093760"/>
                <a:gridCol w="2092320"/>
                <a:gridCol w="2093760"/>
                <a:gridCol w="2092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Вишекомпонентни компле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E</a:t>
                      </a:r>
                      <a:r>
                        <a:rPr b="1" lang="sr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нз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K</a:t>
                      </a:r>
                      <a:r>
                        <a:rPr b="1" lang="sr-Latn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o</a:t>
                      </a:r>
                      <a:r>
                        <a:rPr b="1" lang="sr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фа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Супстра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Ek</a:t>
                      </a:r>
                      <a:r>
                        <a:rPr b="1" lang="sr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стринзик</a:t>
                      </a:r>
                      <a:r>
                        <a:rPr b="1" lang="sr-Latn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 – X-a</a:t>
                      </a:r>
                      <a:r>
                        <a:rPr b="1" lang="sr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з</a:t>
                      </a:r>
                      <a:r>
                        <a:rPr b="1" lang="sr-Latn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VI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Ткивни фа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Интризик</a:t>
                      </a:r>
                      <a:r>
                        <a:rPr b="1" lang="sr-Latn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– X-a</a:t>
                      </a:r>
                      <a:r>
                        <a:rPr b="1" lang="sr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з</a:t>
                      </a:r>
                      <a:r>
                        <a:rPr b="1" lang="sr-Latn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IX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VII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Протромбиназ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X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протромб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Протеин </a:t>
                      </a:r>
                      <a:r>
                        <a:rPr b="1" lang="sr-Latn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 C </a:t>
                      </a:r>
                      <a:r>
                        <a:rPr b="1" lang="sr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компле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Тромби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T</a:t>
                      </a:r>
                      <a:r>
                        <a:rPr b="0" lang="sr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ромбомодул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Протеин </a:t>
                      </a:r>
                      <a:r>
                        <a:rPr b="0" lang="sr-Latn-RS" sz="1800" spc="-1" strike="noStrike">
                          <a:solidFill>
                            <a:srgbClr val="003300"/>
                          </a:solidFill>
                          <a:latin typeface="Calibri"/>
                        </a:rPr>
                        <a:t>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оагулациона каскада – Савремени моде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ницијациона ф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Ткивни фактор (</a:t>
            </a:r>
            <a:r>
              <a:rPr b="0" i="1" lang="sr-Latn-RS" sz="1600" spc="-1" strike="noStrike">
                <a:solidFill>
                  <a:srgbClr val="000000"/>
                </a:solidFill>
                <a:latin typeface="Calibri"/>
              </a:rPr>
              <a:t>Tissue factor - TF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), гликопротеин са експресијом у васкуларној адвентицији, постаје изложен оштећењем крвног суд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Циркулишући фактор </a:t>
            </a: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 везује се за </a:t>
            </a: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TF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 и активира с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TF/VIIa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 комплекс (екстринзичк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-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аза) активир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а се везује за </a:t>
            </a: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а (протромбиназа) и активира малу количину протромбин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а/</a:t>
            </a: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мплификациона фаза (100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у односу на иницијалну фаз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Тромбин активира факторе </a:t>
            </a: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а/</a:t>
            </a: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TF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 комплекс активира фактор </a:t>
            </a: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а се веже за </a:t>
            </a: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а/</a:t>
            </a: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а комплекс (интризички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-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аза) активир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авршна ф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Тромбин конвертује фибриноген у фибрин, који се полимеризуј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Тромбин активира фактор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Latn-RS" sz="16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ИИИа формира тродимензионалну структуру фибрин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оагулациона каскада – Савремени моде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нтитромботични (антикоагулациони) механизми (спречавање даље пропагације угрушк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нтитромбин (антитромбин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) - серпин (инхибитор серин протеазе) који инактивира тромбин (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),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,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 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 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ротеин Ц пу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Тромбомодулин узрокује конформационе промене тромби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Измењен тромбин није више у могућности да активира тромбоците или конвертује фибриноген у фибрин, али може да активира протеин Ц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ктивиран протеин Ц, у садејству са протеином С (кофактор), инактивира Ва и ВИИИ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Инхибитор пута ткивног фактора (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tissue factor patway inhibitor TFPI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) – једноланчани полипептид који реверзибилно инхибир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 и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-Т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комплекс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ндикације за примену антитромбозне терап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титромбоцитна (антиагрегациона) 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тикоагулантна 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омболитичка 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ндикације за антиагрегациону терапиј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анзиторни исхемијски ат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кундарна превенција цереброваскуларних инсул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ронарни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by p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стабилна анг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венција акутног инфаркта миокарда (АИ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кундарна превенција А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штачки срчани залис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ржавање АВ кани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нтитромбоцитни лекови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3840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ханизам дејства лек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ив л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хибиција циклооксигеназ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спирин, сулфинпиразон, флурбипрофен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ифлус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ећање </a:t>
                      </a:r>
                      <a:r>
                        <a:rPr b="0" i="1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ациклин, дипиридам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хибиција фосфодиестераз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пиридамол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лостаз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хибиција тромбоксан синтетаз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зоксибен, имидазол, левамис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7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окада рецептора за тромбоксан (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XA</a:t>
                      </a:r>
                      <a:r>
                        <a:rPr b="0" lang="sr-Latn-CS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пипрост, ифетроб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нтитромбоцитни лекови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14200" y="1071720"/>
          <a:ext cx="8786880" cy="4511520"/>
        </p:xfrm>
        <a:graphic>
          <a:graphicData uri="http://schemas.openxmlformats.org/drawingml/2006/table">
            <a:tbl>
              <a:tblPr/>
              <a:tblGrid>
                <a:gridCol w="4071960"/>
                <a:gridCol w="4714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ханизам дејства лек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ив л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хибиција синтезе и блокада рецептора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XA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догрел, пикотами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хибиција фосфолипазе А</a:t>
                      </a:r>
                      <a:r>
                        <a:rPr b="0" lang="sr-C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ороки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5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хибиција аденозин дифосфат (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P)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гнала – антагонисти 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2Y</a:t>
                      </a:r>
                      <a:r>
                        <a:rPr b="0" lang="sr-Latn-R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ecepto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клопидин, клопидогрел, прасугрел, тикагрел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дулација аденилат или гуанилат циклаз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билни аналози простацикл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хибиција и блокада рецептора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PIb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ли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PIIb/II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ноклонска антитела (абциксимаб), природни антагонисти (ептифибатид), синтетски пептиди или непептиди (тиробифан, ламифибан, фрадафиба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ндикације за антикоагулантну терапиј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филакса у хирургиј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филакса у конгестивној срчаној инсуфицијенциј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филакса у трудноћ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нски тромбоемболиз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утна венска тромб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утна артеријска тромб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штачки срчани залис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утни инфаркт миокар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нтикоагулантни лекови – стара под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п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еков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агонисти витамина 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ценокумарол, атилбискум ацетат, фениндион, варфар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ректни инхибитори тромб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фракционисани хепар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ракционисани хепар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тетски аналози хепар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епари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ртипарин, далтепарин, еноксапарин, надропарин, тинзапар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ндапаринукс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ректни инхибитори тромб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гратробан, бивалирудин, хирудин, липеруд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нтикоагулантни лекови – нова под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директни инхибитори биосинтезесинтезе тромб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ал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ентералн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ректни инхибитори биосинтезе тромб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ентерал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ал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директни инхибитор фактора Xа (фондапаринук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ректни инхибитори фактора X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3"/>
          <p:cNvSpPr/>
          <p:nvPr/>
        </p:nvSpPr>
        <p:spPr>
          <a:xfrm>
            <a:off x="4572000" y="357120"/>
            <a:ext cx="4294080" cy="185760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la virtus praestat gaudium perpetuum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inus saepe pecces, si scias qvod nescia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Индиректни 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хибитори синтезе тромбина (орални антикоагуланси; антагонисти витамина К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9286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ривати кумар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тил-бискумацет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ценокумаро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енпрокум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епромар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рфарин-натрију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ривати инанди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ениндио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Хепар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фракционисани хепар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искомолекуларни хепар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Еноксапа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алтепа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анапрои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инзапари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ондапаринукс*, индиректни инхибитор фактор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Директни инхибитори тромб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рентерал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ируд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ивалируд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ргатроб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лигатр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ал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бигатран етексил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Директни инхибитори фактора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ивароксаб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пиксаб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триксаб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доксаб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упа супстанци у испитивањ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Лекови који појачавају антикоагулантно деј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Алкох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Алопурин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Амиодар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Анаболички стерои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Антидепресиви (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трициклични антидепресиви, фенотиазини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Антибиотици (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ципрофлоксацин, еритромицин, метронидазол, миконазол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Циметидин, омепразол, рибље уље, ман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Хиполипемијски лекови (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клофибрат, холестирамин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Лаксан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Орални хипогликемици (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толбутамид, хлорпропамид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Тирокси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Лекови који слабе антикоагулантно деј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714760"/>
            <a:ext cx="403848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Барбитура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арбамазеп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Фенито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Гризеофулв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Халоперид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еркаптопури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2714760"/>
            <a:ext cx="403848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афцил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Орални контрацепти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ифампиц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ибавир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пиринолакт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Витамин 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ндикације за тромболитичку терапиј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утни инфаркт миокар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утна оклузија периферне артер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сивна плућна ембол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сивне венске тромбо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омбоза механичких вештачких срчаних валву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клузија артериовенског ша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омбоза АВ кани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схемијски шлог у прва 3 с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Тромболитички (фибринолитички) леко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рептокин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истрепл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рокин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лтепл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нектепл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теплаз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ови фибринолитички лекови у истраживању (десмотепласа, алфимепрас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епоруке за тромболитичку терапиј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утни инфаркт миокар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ептокиназа 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лтеплаза 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тепла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нектеплаза 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екардијалне индик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рокина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3"/>
          <p:cNvSpPr/>
          <p:nvPr/>
        </p:nvSpPr>
        <p:spPr>
          <a:xfrm>
            <a:off x="4572000" y="357120"/>
            <a:ext cx="4294080" cy="185760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Само врлина даје трајно задовољство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Ређе би згрешио кад би знао оно што не знаш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Хемостаза и тромбо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емост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дхе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оагула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омб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Венска тромб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ртеријска тромб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мболу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Физиологија ендот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ндотелијалне ћелије, у физиолошким условима инхибирају формирање тромба бројним механизмим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екреција простациклина –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PGI</a:t>
            </a:r>
            <a:r>
              <a:rPr b="0" lang="sr-Latn-R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(инхибиција агрегације и активације тромбоцит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екреција азот моноксида –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(вазодилатација, и инхибиција агрегације и активације тромбоцит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кспресија хепарин сулфата (активира антитромбин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кспресија тромбомодулина – ТМ (измена афинитета тромбина од активације фактора коагулације ка активацији антикоагулантних факто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кспресија инхибитора пута ткивног фактора (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tissue factor pathway inhibitor - TFPI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) – инхибира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TF/VIIa/Xa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комплекс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ичке и хемијске карактеристике тромбоци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 цитоплазми активни факто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ктин, миозин, тромбостенин (контрактилни протеин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ндоплазматучни ретикулум, Голџи апарат (велике количине калцијум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итохондрије, ензимски систем (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ATP, ADP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стагландини, локални хормо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актор стабилизације фибр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актор ра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Гликопротеински омотач, богат фосфолипиди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ремећаји тромбоци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омбоцитопен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лабљена производ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квестрација у слези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брзана разград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омбоцитипенија индукована инфекциј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омбоцитопенија индукована леков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муна тромбоцитопенијска пурпу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Лекови који могу изазвати тромбоцитопениј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Хемиотерапијски агенс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: посебно карбоплатина, алкилишући агенси, антрациклини, антиметаболи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Антибиотиц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: сулфонамиди, пеницилини, цефалоспори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Хепарин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: највећа инциденца при употреби нефракционисаних препар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Кардиоваскуларни агенс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: тиазидни диуретици, ретко инхибитори ангиотензин-конвертујућег ензи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ункционални поремећаји тромбоци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ремећаји атхез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Von Willebrandov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ле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ремећаји агрег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ремећаји секре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37:56Z</dcterms:created>
  <dc:creator/>
  <dc:description/>
  <dc:language>en-US</dc:language>
  <cp:lastModifiedBy/>
  <dcterms:modified xsi:type="dcterms:W3CDTF">2017-08-19T08:01:30Z</dcterms:modified>
  <cp:revision>5</cp:revision>
  <dc:subject/>
  <dc:title>Комуникација са пацијентом и другим здравственим радниц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561033</vt:lpwstr>
  </property>
</Properties>
</file>